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anor M. Savk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3E56A-549B-464A-B7ED-6ACE5CB20E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68834-7E43-44C5-B4BD-401827D413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anor M. Savk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DB4A5-4657-45AC-BF87-35EC64123A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2BFB-F685-498A-BF3C-DD401A7A0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1138-9BE5-4BBB-AC62-9A0CA0935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B13FC6-781E-4092-9E1D-B936A9C79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0B8144-1EDA-4F13-B4F3-F533A5E4E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FD508A-9255-454F-AE86-0A7EC4437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97B83C-8CD0-4737-97D4-9CC8D0A6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5F9FC9-BF09-4B1A-995E-920205DB0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E5CE37-E938-431A-A1F7-0239ED58A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13030C-77D1-4C53-A564-6B8B1CD10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FED9B9-3417-4D41-BE28-069C9722E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0965CD-B576-4F0F-9587-1CE3057B2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826ED7-CC81-4B1F-B4C5-214C56ACC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0B9A-D82F-4C72-AE85-A54C5282A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9B6655-4003-4011-B817-EE401DEF8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DF8246-088B-400B-A083-29705C357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93C14C-4205-499C-BC39-12B84D197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995BC5-EAD6-4252-8525-C51560348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B56EFB-911A-4CB4-8EBF-EC7EF8694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BB3AA7-5764-4654-A39A-58F545665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04BE3B-D455-4B3D-9204-60FF7A50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99B3B1-D21B-4B59-8F8A-C929BD82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838601-C184-475E-962C-01B78CC2A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E95448-13AF-4951-90A8-1A4673C1A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36FD-D1EF-43CB-A9FB-68E361354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5E8C63-6649-4F56-9B60-D85C3F23D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EC227D-D01D-45FA-BBE0-8CC5CF844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C982AC-5DD8-47F2-9141-916942DF2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A28582-4464-4FEC-B0CD-1DF1C5718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77F8B4-DDC0-430D-A4D9-9FBAABF92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FBD56F-F33E-4862-87E0-A995B0DE5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88039D-2D47-4D1E-9D75-7F93EA947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8D1FFC-08DA-4EF4-A13D-20B3A54EB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C1777C-7BA8-4650-A075-C9AC944A9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D4E28C-19CD-4E34-A7C0-A5CAF8D49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CCAAC-BBB6-4081-B4DA-E7F69EB6A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80A452-75A5-4CAF-83F6-151016CDB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2BF32F-0B8F-4F40-A2EB-F28C9F5FC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772886-59B6-44C1-8957-1464D424A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080A2F-BA21-4E67-A869-A65BF2937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41FD07-6BA0-42BD-9DCC-C9635B5FD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49625C-23AC-4FD8-B05F-38A4B508B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838C8D-A4A8-47BF-846F-CDEDB5854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908FB5-FDFB-4083-90FA-824942A4D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048922-7EEA-4C38-9303-9A0335161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958999-B665-4A2B-8C47-EF6E4D76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B3699-2A68-4981-8B32-28072B5BF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7471E0-324F-4378-B626-6563FABF9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A6B696-0998-461F-8D58-54A507586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7EB934-4F77-422E-8B76-37AA8475A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63E140-F3A4-4EBC-89C5-2AB419AF8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E118BC-1A14-478A-B3C5-F59692087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71E3D-DE85-4A90-84CC-12A21EB20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AEACC-0A5E-4504-A3EB-ECB5E8AA2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AE530-F5C4-4B28-9232-E4F8EE1EF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A096F-3010-47D6-B462-2369404A6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8CA6F-530C-4E2A-9094-FB6FC512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FF12-402B-4183-893F-CDF291AE3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5BDF5-4D60-4515-B7D4-F0BAE6404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C75BF-88BC-4696-BCA8-E7B01A10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4EF91-00F8-4AD3-81E6-D7BECBD14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50504-33E3-49B4-96E1-850AE63F5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9D0A8-B6C9-4489-9462-A7232277B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C9570-8047-4728-ACA9-E8A38A591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BAC31-AC49-484F-8C9F-A9EABB6F2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4F245-1F7C-4CF8-897C-7922E789C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2E36A-40AE-4811-AFCE-BB702C513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C9B1A-DF99-47C1-9C98-079FDCB23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7CFD-BDAC-42F7-9D29-AE19C2AAB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E467A-4665-453C-B65A-5C06D6645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B3FD4-8B1F-4381-B5A7-ECEA582A3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832BD-2A19-4A1A-A60D-55162AE28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5FD23-054D-42DD-85AA-DEAAD93C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27393-3077-4256-B20F-6AEA0E68B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FEEA5-1855-4168-B845-E3DC85DB7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54051-ACB4-454D-A558-1159C1172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2401E-A401-49DC-BBC6-71D1085FA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EC7EF-8916-446D-9A60-897145DA3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260BA-3441-4523-B62C-67E04F73A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5D62-253C-4796-BA36-3B1AA06AE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12408-B726-4163-A62C-D0EDF6123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784A6-D6F2-4682-A86A-D5B9F49F6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6775F-AB63-4A6A-92F1-EB77BA650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25589-383F-4F6A-BA1C-FE7D80BD6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CA5F2-0CBD-45C9-9CF9-44CD40741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19C1E-810A-4659-A846-D388B5A2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A5D09-FD5A-4AE6-A982-AAA7A3673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33318-55E2-4484-9D11-164BA8E09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B3A24-2BCC-4CDE-94BA-C262E2F5C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F91DCB-2835-43A2-B65A-22D89885F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2ED3-FB24-4B52-8A84-D97B35293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3B6FD-E467-47A0-A7BF-A7DD0225F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C5DAE-6F61-4B4A-9114-7871728E5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CAC69-0A57-4957-B966-7934DD950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13E3A1-419E-4063-ABC1-696C58FCE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32831-9E57-496B-96FD-8D2FB7025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7FCFE6-2BC9-4E78-8B64-98D547031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D724C2-4398-4FB0-B765-D3187CD5B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7476E5-E7F3-4A42-B6D8-DB2C0D0D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C63A83-99B1-462E-9FCE-EA2EF4EA5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FEB266-EA49-4C38-9C96-FF3D0AE04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5184-384D-4448-8C25-560A9A328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95F4A5-51CA-4A7E-88B8-34FC52742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4DFE95-3879-4CED-AEF5-D4C62799A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2E4BA6-0C78-4986-9110-E3CF264F5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E9138A-0518-4B74-BB69-660606623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0A921E-AF29-45FB-B7B1-CD8FC5FD2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2AD50D-F0F7-4232-966B-99D0EB523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248B8F-79A1-48F3-8F0B-561E82B08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D55107-5C67-4527-B06F-3D153F40A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3B46C9-3B6A-4E7B-8B2D-2862274CA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BADE47-C03E-4808-AD6F-AFFDD8BC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AD63-4843-4217-B368-E72B7B0D4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4FD8B9-DF23-4F13-9FC3-9F4EAD5BB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1510D7-622F-472F-B2EB-7C9BE1529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51401A-BF0C-42AF-8032-6A1CB04B9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FA9899-5682-4DD2-871D-1AFE45229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259528-81EA-4836-8A5F-6C4291B3F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FC9F77-EDD4-4165-A476-8364FC255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8D2000-E623-490D-9826-CBB1B3DE0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8E52F7-0D74-4F9B-BCBD-2EEE92E60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9EF221-80F2-4D73-93C6-7AD0DEABC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ACE389-BDB1-459C-98F6-E2436E5BF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C3F0-5B78-4567-AE2A-754C95649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840237-405F-48FA-B0C5-8B4E91F7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4DB08-757D-45C9-A130-FE9501EE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67F185-43EE-4CC0-AF2E-2B87CD68A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8B9D49-4007-4BD7-A41D-538D6CB3B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12AA79-500F-48E6-BE22-88313B72D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3365BD-5BA1-40A8-B1BC-7B6560C84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52DB92-66DF-45BC-8452-CD0808486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B662FA-F2EC-4594-9E38-CCE26C991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A623AE-B60E-4552-8C82-1E907C1EE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950EAA-7421-48AC-B54C-0DDF65843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7C4C-ADE8-4BA3-B2A1-E1B5D8570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FE9DE5-F423-412E-A28E-7A26285EC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008C1D-5838-4812-8655-8A21CD54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AE8ECE-F1F6-4457-A603-5899B5D3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C82906-AA27-494C-8684-BAF48B899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B327A0-E487-44CD-A084-2BA08C431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A39C30-49DA-4B1D-B436-3ED819CEA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DBA403-B06A-4741-ACA9-37F033738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1A10B5-2BDD-4933-A8B1-55B3B3623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47C05E-9EC1-4385-92B2-4072DC29A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73B869-002C-4D4C-82FC-490E14E7C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90BE6-EEDC-4436-89DD-989842A7552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781B9-DF4F-474C-834B-E260DFAF7D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FF688-48AF-4C0F-B630-F901EDB50BF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95DE8-0AF7-4CB9-969E-26536509E8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9F469-EA36-41B8-A305-BECADAFAFEF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F3225-8B14-406E-BDD4-9AAFFEC258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7FF76-ACD8-453B-8D59-FE1CA722CF1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897A0-19B0-4049-83B2-B08937771F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EA076-B4FA-423F-A80A-42421657FC8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E25F0-5188-46CD-B125-8838D1BB52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1BC8E-1F55-4291-8383-685F02B75AF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5B03D-C922-4E17-A93E-770C7C43C6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0B7F5-4262-4ACD-A9A9-2182FB263C5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87EEB-9DF7-4B6F-88FA-10B25E4321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E5DB7-7B0F-468E-9E0B-0884B68D448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DCAE4-FDCA-434F-B8BB-E19DBA4D65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7166E-649A-424E-B7D4-AE579968226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79136-179D-46E9-9646-6B8D641BDE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582BA-B06A-4C00-A4C8-08159447397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81C2D-6D36-4FFA-BE2A-B71658CD9C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5A476-E366-426B-90F6-64F81281122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CF0DE-FE99-452B-8B1F-8D7E1346B2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83A18-1A3F-4D1E-B1C2-C213D3BD4C4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F706B-29A2-4D4D-A5B9-ED113221BE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5.xml"/><Relationship Id="rId3" Type="http://schemas.openxmlformats.org/officeDocument/2006/relationships/slide" Target=""/><Relationship Id="rId4" Type="http://schemas.openxmlformats.org/officeDocument/2006/relationships/slide" Target="slide7.xml"/><Relationship Id="rId5" Type="http://schemas.openxmlformats.org/officeDocument/2006/relationships/slide" Target=""/><Relationship Id="rId6" Type="http://schemas.openxmlformats.org/officeDocument/2006/relationships/slide" Target="slide9.xml"/><Relationship Id="rId7" Type="http://schemas.openxmlformats.org/officeDocument/2006/relationships/slide" Target=""/><Relationship Id="rId8" Type="http://schemas.openxmlformats.org/officeDocument/2006/relationships/slide" Target="slide11.xml"/><Relationship Id="rId9" Type="http://schemas.openxmlformats.org/officeDocument/2006/relationships/slide" Target=""/><Relationship Id="rId10" Type="http://schemas.openxmlformats.org/officeDocument/2006/relationships/slide" Target="slide13.xml"/><Relationship Id="rId11" Type="http://schemas.openxmlformats.org/officeDocument/2006/relationships/slide" Target=""/><Relationship Id="rId12" Type="http://schemas.openxmlformats.org/officeDocument/2006/relationships/slide" Target="slide15.xml"/><Relationship Id="rId13" Type="http://schemas.openxmlformats.org/officeDocument/2006/relationships/slide" Target=""/><Relationship Id="rId14" Type="http://schemas.openxmlformats.org/officeDocument/2006/relationships/slide" Target="slide17.xml"/><Relationship Id="rId15" Type="http://schemas.openxmlformats.org/officeDocument/2006/relationships/slide" Target=""/><Relationship Id="rId16" Type="http://schemas.openxmlformats.org/officeDocument/2006/relationships/slide" Target="slide19.xml"/><Relationship Id="rId17" Type="http://schemas.openxmlformats.org/officeDocument/2006/relationships/slide" Target=""/><Relationship Id="rId18" Type="http://schemas.openxmlformats.org/officeDocument/2006/relationships/slide" Target="slide21.xml"/><Relationship Id="rId19" Type="http://schemas.openxmlformats.org/officeDocument/2006/relationships/slide" Target=""/><Relationship Id="rId20" Type="http://schemas.openxmlformats.org/officeDocument/2006/relationships/slide" Target="slide23.xml"/><Relationship Id="rId21" Type="http://schemas.openxmlformats.org/officeDocument/2006/relationships/slide" Target=""/><Relationship Id="rId22" Type="http://schemas.openxmlformats.org/officeDocument/2006/relationships/slide" Target="slide25.xml"/><Relationship Id="rId23" Type="http://schemas.openxmlformats.org/officeDocument/2006/relationships/slide" Target=""/><Relationship Id="rId24" Type="http://schemas.openxmlformats.org/officeDocument/2006/relationships/slide" Target="slide27.xml"/><Relationship Id="rId25" Type="http://schemas.openxmlformats.org/officeDocument/2006/relationships/slide" Target=""/><Relationship Id="rId26" Type="http://schemas.openxmlformats.org/officeDocument/2006/relationships/slide" Target="slide29.xml"/><Relationship Id="rId27" Type="http://schemas.openxmlformats.org/officeDocument/2006/relationships/slide" Target=""/><Relationship Id="rId28" Type="http://schemas.openxmlformats.org/officeDocument/2006/relationships/slide" Target="slide31.xml"/><Relationship Id="rId29" Type="http://schemas.openxmlformats.org/officeDocument/2006/relationships/slide" Target=""/><Relationship Id="rId30" Type="http://schemas.openxmlformats.org/officeDocument/2006/relationships/slide" Target="slide33.xml"/><Relationship Id="rId31" Type="http://schemas.openxmlformats.org/officeDocument/2006/relationships/slide" Target=""/><Relationship Id="rId32" Type="http://schemas.openxmlformats.org/officeDocument/2006/relationships/slide" Target="slide35.xml"/><Relationship Id="rId33" Type="http://schemas.openxmlformats.org/officeDocument/2006/relationships/slide" Target=""/><Relationship Id="rId34" Type="http://schemas.openxmlformats.org/officeDocument/2006/relationships/slide" Target="slide37.xml"/><Relationship Id="rId35" Type="http://schemas.openxmlformats.org/officeDocument/2006/relationships/slide" Target=""/><Relationship Id="rId36" Type="http://schemas.openxmlformats.org/officeDocument/2006/relationships/slide" Target="slide39.xml"/><Relationship Id="rId37" Type="http://schemas.openxmlformats.org/officeDocument/2006/relationships/slide" Target=""/><Relationship Id="rId38" Type="http://schemas.openxmlformats.org/officeDocument/2006/relationships/slide" Target="slide41.xml"/><Relationship Id="rId39" Type="http://schemas.openxmlformats.org/officeDocument/2006/relationships/slide" Target=""/><Relationship Id="rId40" Type="http://schemas.openxmlformats.org/officeDocument/2006/relationships/slide" Target="slide43.xml"/><Relationship Id="rId41" Type="http://schemas.openxmlformats.org/officeDocument/2006/relationships/slide" Target=""/><Relationship Id="rId42" Type="http://schemas.openxmlformats.org/officeDocument/2006/relationships/slide" Target="slide45.xml"/><Relationship Id="rId43" Type="http://schemas.openxmlformats.org/officeDocument/2006/relationships/slide" Target=""/><Relationship Id="rId44" Type="http://schemas.openxmlformats.org/officeDocument/2006/relationships/slide" Target="slide47.xml"/><Relationship Id="rId45" Type="http://schemas.openxmlformats.org/officeDocument/2006/relationships/slide" Target=""/><Relationship Id="rId46" Type="http://schemas.openxmlformats.org/officeDocument/2006/relationships/slide" Target="slide49.xml"/><Relationship Id="rId47" Type="http://schemas.openxmlformats.org/officeDocument/2006/relationships/slide" Target=""/><Relationship Id="rId48" Type="http://schemas.openxmlformats.org/officeDocument/2006/relationships/slide" Target="slide51.xml"/><Relationship Id="rId49" Type="http://schemas.openxmlformats.org/officeDocument/2006/relationships/slide" Target=""/><Relationship Id="rId50" Type="http://schemas.openxmlformats.org/officeDocument/2006/relationships/slideLayout" Target="../slideLayouts/slideLayout85.xml"/><Relationship Id="rId5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8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2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633708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106668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Know your mat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Rectangle 4"/>
          <p:cNvSpPr/>
          <p:nvPr/>
        </p:nvSpPr>
        <p:spPr>
          <a:xfrm rot="21000000">
            <a:off x="-681840" y="2168280"/>
            <a:ext cx="6384960" cy="14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700" spc="-1" strike="noStrike">
                <a:solidFill>
                  <a:srgbClr val="ff9900"/>
                </a:solidFill>
                <a:latin typeface="Freestyle Script"/>
              </a:rPr>
              <a:t>Math Mania</a:t>
            </a:r>
            <a:endParaRPr b="0" lang="en-US" sz="8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2" name="Picture 6" descr=""/>
          <p:cNvPicPr/>
          <p:nvPr/>
        </p:nvPicPr>
        <p:blipFill>
          <a:blip r:embed="rId2"/>
          <a:stretch/>
        </p:blipFill>
        <p:spPr>
          <a:xfrm>
            <a:off x="0" y="6248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8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4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" fill="hold"/>
                                        <p:tgtEl>
                                          <p:spTgt spid="5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06B87-D031-4817-976D-04F6C9D13C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3"/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AutoShape 4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Rectangle 5"/>
          <p:cNvSpPr/>
          <p:nvPr/>
        </p:nvSpPr>
        <p:spPr>
          <a:xfrm>
            <a:off x="2619000" y="3050640"/>
            <a:ext cx="3819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What is (2,0)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B238D-6387-46E7-9241-888864AAAE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3"/>
          <p:cNvSpPr/>
          <p:nvPr/>
        </p:nvSpPr>
        <p:spPr>
          <a:xfrm>
            <a:off x="762120" y="2057400"/>
            <a:ext cx="73152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form of a function after ‘completing the square’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 $5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63956-6894-4B78-959E-E721168097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Rectangle 3"/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AutoShape 4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Rectangle 5"/>
          <p:cNvSpPr/>
          <p:nvPr/>
        </p:nvSpPr>
        <p:spPr>
          <a:xfrm>
            <a:off x="1641960" y="2872800"/>
            <a:ext cx="5869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What is vertex form 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5BF6F-8FC9-4F93-AB03-7A9D6B6420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4"/>
          <p:cNvSpPr/>
          <p:nvPr/>
        </p:nvSpPr>
        <p:spPr>
          <a:xfrm>
            <a:off x="838080" y="1905120"/>
            <a:ext cx="73152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CA" sz="4800" spc="-1" strike="noStrike">
                <a:solidFill>
                  <a:srgbClr val="ffffff"/>
                </a:solidFill>
                <a:latin typeface="Times New Roman"/>
              </a:rPr>
              <a:t>What translation has occurred to the following fun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800" spc="-1" strike="noStrike">
                <a:solidFill>
                  <a:srgbClr val="ffffff"/>
                </a:solidFill>
                <a:latin typeface="Times New Roman"/>
              </a:rPr>
              <a:t>F(x) = 2 sin (x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 $1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15668-27A2-437D-BC8E-7DDE56F405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3"/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AutoShape 4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5"/>
          <p:cNvSpPr/>
          <p:nvPr/>
        </p:nvSpPr>
        <p:spPr>
          <a:xfrm>
            <a:off x="1185840" y="2260800"/>
            <a:ext cx="638496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What i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‘</a:t>
            </a: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stretch’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0AF76-E0B9-42F4-87DB-C1F8ACDCF8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3"/>
          <p:cNvSpPr/>
          <p:nvPr/>
        </p:nvSpPr>
        <p:spPr>
          <a:xfrm>
            <a:off x="762120" y="1219320"/>
            <a:ext cx="7315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Name the translation of the following equ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800" spc="-1" strike="noStrike">
                <a:solidFill>
                  <a:srgbClr val="ffffff"/>
                </a:solidFill>
                <a:latin typeface="Times New Roman"/>
              </a:rPr>
              <a:t>F(x) = sin (x-60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 $2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Box 5"/>
          <p:cNvSpPr/>
          <p:nvPr/>
        </p:nvSpPr>
        <p:spPr>
          <a:xfrm>
            <a:off x="5013360" y="91440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B01B7-C1DC-4F9B-9FD2-8CB20B5B04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"/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AutoShape 4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5"/>
          <p:cNvSpPr/>
          <p:nvPr/>
        </p:nvSpPr>
        <p:spPr>
          <a:xfrm>
            <a:off x="863640" y="2291760"/>
            <a:ext cx="78008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What is horizontal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translation 60 degrees right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629AD-9394-43CB-96E4-6F3FA81C4A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Text Box 4"/>
          <p:cNvSpPr/>
          <p:nvPr/>
        </p:nvSpPr>
        <p:spPr>
          <a:xfrm>
            <a:off x="914400" y="2133720"/>
            <a:ext cx="73152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translation to the following fun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800" spc="-1" strike="noStrike">
                <a:solidFill>
                  <a:srgbClr val="ffffff"/>
                </a:solidFill>
                <a:latin typeface="Times New Roman"/>
              </a:rPr>
              <a:t>F(x) = sin (x+50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 $3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80031-3C9C-4E4D-B705-995A8F85F6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3"/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AutoShape 4"/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5"/>
          <p:cNvSpPr/>
          <p:nvPr/>
        </p:nvSpPr>
        <p:spPr>
          <a:xfrm>
            <a:off x="1752480" y="1917360"/>
            <a:ext cx="563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What is ‘horizontal translation 50 degrees left’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D7528-0B0C-45F4-BD96-BF73E50FAA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3"/>
          <p:cNvSpPr/>
          <p:nvPr/>
        </p:nvSpPr>
        <p:spPr>
          <a:xfrm>
            <a:off x="762120" y="1219320"/>
            <a:ext cx="73152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type of translation that has occurred to the following fun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(x) = -3 sin (x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 $4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15541-EE99-4AAA-B789-2F0275D217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AutoShape 89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00"/>
                </a:solidFill>
                <a:uFillTx/>
                <a:latin typeface="Garamond"/>
                <a:hlinkClick r:id="rId2" action="ppaction://hlinksldjump"/>
              </a:rPr>
              <a:t>$2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AutoShape 90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00"/>
                </a:solidFill>
                <a:uFillTx/>
                <a:latin typeface="Garamond"/>
                <a:hlinkClick r:id="rId4" action="ppaction://hlinksldjump"/>
              </a:rPr>
              <a:t>$3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AutoShape 91">
            <a:hlinkClick r:id="rId5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00"/>
                </a:solidFill>
                <a:uFillTx/>
                <a:latin typeface="Garamond"/>
                <a:hlinkClick r:id="rId6" action="ppaction://hlinksldjump"/>
              </a:rPr>
              <a:t>$4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AutoShape 92">
            <a:hlinkClick r:id="rId7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00"/>
                </a:solidFill>
                <a:uFillTx/>
                <a:latin typeface="Garamond"/>
                <a:hlinkClick r:id="rId8" action="ppaction://hlinksldjump"/>
              </a:rPr>
              <a:t>$5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AutoShape 101">
            <a:hlinkClick r:id="rId9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00"/>
                </a:solidFill>
                <a:uFillTx/>
                <a:latin typeface="Garamond"/>
                <a:hlinkClick r:id="rId10" action="ppaction://hlinksldjump"/>
              </a:rPr>
              <a:t>$1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AutoShape 102">
            <a:hlinkClick r:id="rId11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00"/>
                </a:solidFill>
                <a:uFillTx/>
                <a:latin typeface="Garamond"/>
                <a:hlinkClick r:id="rId12" action="ppaction://hlinksldjump"/>
              </a:rPr>
              <a:t>$2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AutoShape 103">
            <a:hlinkClick r:id="rId13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00"/>
                </a:solidFill>
                <a:uFillTx/>
                <a:latin typeface="Garamond"/>
                <a:hlinkClick r:id="rId14" action="ppaction://hlinksldjump"/>
              </a:rPr>
              <a:t>$3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AutoShape 104">
            <a:hlinkClick r:id="rId15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00"/>
                </a:solidFill>
                <a:uFillTx/>
                <a:latin typeface="Garamond"/>
                <a:hlinkClick r:id="rId16" action="ppaction://hlinksldjump"/>
              </a:rPr>
              <a:t>$4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AutoShape 105">
            <a:hlinkClick r:id="rId17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00"/>
                </a:solidFill>
                <a:uFillTx/>
                <a:latin typeface="Garamond"/>
                <a:hlinkClick r:id="rId18" action="ppaction://hlinksldjump"/>
              </a:rPr>
              <a:t>$5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AutoShape 106">
            <a:hlinkClick r:id="rId19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00"/>
                </a:solidFill>
                <a:uFillTx/>
                <a:latin typeface="Garamond"/>
                <a:hlinkClick r:id="rId20" action="ppaction://hlinksldjump"/>
              </a:rPr>
              <a:t>$1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AutoShape 107">
            <a:hlinkClick r:id="rId21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00"/>
                </a:solidFill>
                <a:uFillTx/>
                <a:latin typeface="Garamond"/>
                <a:hlinkClick r:id="rId22" action="ppaction://hlinksldjump"/>
              </a:rPr>
              <a:t>$2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AutoShape 108">
            <a:hlinkClick r:id="rId23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00"/>
                </a:solidFill>
                <a:uFillTx/>
                <a:latin typeface="Garamond"/>
                <a:hlinkClick r:id="rId24" action="ppaction://hlinksldjump"/>
              </a:rPr>
              <a:t>$3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AutoShape 109">
            <a:hlinkClick r:id="rId25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00"/>
                </a:solidFill>
                <a:uFillTx/>
                <a:latin typeface="Garamond"/>
                <a:hlinkClick r:id="rId26" action="ppaction://hlinksldjump"/>
              </a:rPr>
              <a:t>$4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AutoShape 110">
            <a:hlinkClick r:id="rId27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00"/>
                </a:solidFill>
                <a:uFillTx/>
                <a:latin typeface="Garamond"/>
                <a:hlinkClick r:id="rId28" action="ppaction://hlinksldjump"/>
              </a:rPr>
              <a:t>$5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AutoShape 111">
            <a:hlinkClick r:id="rId29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00"/>
                </a:solidFill>
                <a:uFillTx/>
                <a:latin typeface="Garamond"/>
                <a:hlinkClick r:id="rId30" action="ppaction://hlinksldjump"/>
              </a:rPr>
              <a:t>$1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AutoShape 112">
            <a:hlinkClick r:id="rId31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00"/>
                </a:solidFill>
                <a:uFillTx/>
                <a:latin typeface="Garamond"/>
                <a:hlinkClick r:id="rId32" action="ppaction://hlinksldjump"/>
              </a:rPr>
              <a:t>$2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AutoShape 113">
            <a:hlinkClick r:id="rId33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00"/>
                </a:solidFill>
                <a:uFillTx/>
                <a:latin typeface="Garamond"/>
                <a:hlinkClick r:id="rId34" action="ppaction://hlinksldjump"/>
              </a:rPr>
              <a:t>$3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AutoShape 114">
            <a:hlinkClick r:id="rId35" action="ppaction://hlinksldjump"/>
          </p:cNvPr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00"/>
                </a:solidFill>
                <a:uFillTx/>
                <a:latin typeface="Garamond"/>
                <a:hlinkClick r:id="rId36" action="ppaction://hlinksldjump"/>
              </a:rPr>
              <a:t>$4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AutoShape 115">
            <a:hlinkClick r:id="rId37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00"/>
                </a:solidFill>
                <a:uFillTx/>
                <a:latin typeface="Garamond"/>
                <a:hlinkClick r:id="rId38" action="ppaction://hlinksldjump"/>
              </a:rPr>
              <a:t>$5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AutoShape 116">
            <a:hlinkClick r:id="rId39" action="ppaction://hlinksldjump"/>
          </p:cNvPr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00"/>
                </a:solidFill>
                <a:uFillTx/>
                <a:latin typeface="Garamond"/>
                <a:hlinkClick r:id="rId40" action="ppaction://hlinksldjump"/>
              </a:rPr>
              <a:t>$1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AutoShape 117">
            <a:hlinkClick r:id="rId41" action="ppaction://hlinksldjump"/>
          </p:cNvPr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00"/>
                </a:solidFill>
                <a:uFillTx/>
                <a:latin typeface="Garamond"/>
                <a:hlinkClick r:id="rId42" action="ppaction://hlinksldjump"/>
              </a:rPr>
              <a:t>$2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AutoShape 118">
            <a:hlinkClick r:id="rId43" action="ppaction://hlinksldjump"/>
          </p:cNvPr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00"/>
                </a:solidFill>
                <a:uFillTx/>
                <a:latin typeface="Garamond"/>
                <a:hlinkClick r:id="rId44" action="ppaction://hlinksldjump"/>
              </a:rPr>
              <a:t>$3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AutoShape 119">
            <a:hlinkClick r:id="rId45" action="ppaction://hlinksldjump"/>
          </p:cNvPr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00"/>
                </a:solidFill>
                <a:uFillTx/>
                <a:latin typeface="Garamond"/>
                <a:hlinkClick r:id="rId46" action="ppaction://hlinksldjump"/>
              </a:rPr>
              <a:t>$4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AutoShape 120">
            <a:hlinkClick r:id="rId47" action="ppaction://hlinksldjump"/>
          </p:cNvPr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00"/>
                </a:solidFill>
                <a:uFillTx/>
                <a:latin typeface="Garamond"/>
                <a:hlinkClick r:id="rId48" action="ppaction://hlinksldjump"/>
              </a:rPr>
              <a:t>$5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AutoShape 40">
            <a:hlinkClick r:id="rId49" action="ppaction://hlinksldjump"/>
          </p:cNvPr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$1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Rectangle 58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St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hat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Rectangle 97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Move This 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Rectangle 98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Nam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Roo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99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What’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your ang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Rectangle 100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i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EACBA-215D-4D10-8C8F-C0F894DD64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Rectangle 3"/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AutoShape 4"/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Rectangle 5"/>
          <p:cNvSpPr/>
          <p:nvPr/>
        </p:nvSpPr>
        <p:spPr>
          <a:xfrm>
            <a:off x="1523880" y="2660400"/>
            <a:ext cx="556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What is “stretched” and “reflected”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CB538-5A32-47E7-84BA-83F23413F5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4"/>
          <p:cNvSpPr/>
          <p:nvPr/>
        </p:nvSpPr>
        <p:spPr>
          <a:xfrm>
            <a:off x="990720" y="1828800"/>
            <a:ext cx="7315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Max and M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of F(x) = 2sin(x-90) +4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 $5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A5A7B-3C29-4164-AE8D-A7D9E51B9D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Rectangle 3"/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AutoShape 4"/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2943360" y="2291760"/>
            <a:ext cx="2736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What is ‘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6 and 2’ 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928C4-19C7-4527-9FFE-319FD5E022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3"/>
          <p:cNvSpPr/>
          <p:nvPr/>
        </p:nvSpPr>
        <p:spPr>
          <a:xfrm>
            <a:off x="990720" y="2057400"/>
            <a:ext cx="7315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Name the roots o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y = (x-5)(x+3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 $1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98F57-6864-41D9-9AEF-A89CFBF50C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Rectangle 3"/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AutoShape 4"/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Rectangle 5"/>
          <p:cNvSpPr/>
          <p:nvPr/>
        </p:nvSpPr>
        <p:spPr>
          <a:xfrm>
            <a:off x="1945440" y="2650680"/>
            <a:ext cx="527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What are ‘5 &amp; -3’ 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5EA60-844E-4F57-9326-4D2286D2CF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4"/>
          <p:cNvSpPr/>
          <p:nvPr/>
        </p:nvSpPr>
        <p:spPr>
          <a:xfrm>
            <a:off x="914400" y="1905120"/>
            <a:ext cx="7315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Name the roots o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y = 3(x + 2)(x - 6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$2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7482E-2D2B-44DC-A729-8591695389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Rectangle 3"/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AutoShape 4"/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Rectangle 5"/>
          <p:cNvSpPr/>
          <p:nvPr/>
        </p:nvSpPr>
        <p:spPr>
          <a:xfrm>
            <a:off x="1636920" y="3017160"/>
            <a:ext cx="5901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What are ‘- 2 and 6’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75A46-A623-4DD5-A6BD-1BD9283FDB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Text Box 3"/>
          <p:cNvSpPr/>
          <p:nvPr/>
        </p:nvSpPr>
        <p:spPr>
          <a:xfrm>
            <a:off x="914400" y="914400"/>
            <a:ext cx="7315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number of zeros fou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n the following fun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 (t) = 9t</a:t>
            </a:r>
            <a:r>
              <a:rPr b="1" lang="en-US" sz="4800" spc="-1" strike="noStrike" baseline="30000">
                <a:solidFill>
                  <a:srgbClr val="ffffff"/>
                </a:solidFill>
                <a:latin typeface="Times New Roman"/>
              </a:rPr>
              <a:t>2 -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16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 $3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A153B-956C-450F-9F71-E7BBD02D15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Rectangle 3"/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AutoShape 4"/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Rectangle 5"/>
          <p:cNvSpPr/>
          <p:nvPr/>
        </p:nvSpPr>
        <p:spPr>
          <a:xfrm>
            <a:off x="2678040" y="3017520"/>
            <a:ext cx="380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What are ‘2’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38AE2-D2FC-44AB-9508-C7DCC20A5D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Text Box 4"/>
          <p:cNvSpPr/>
          <p:nvPr/>
        </p:nvSpPr>
        <p:spPr>
          <a:xfrm>
            <a:off x="762120" y="1219320"/>
            <a:ext cx="7315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Name the roots of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y = (2x - 3) ( 3x + 5)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 $4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F0074-04E3-4193-9EFF-08E6789197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 Box 3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4"/>
          <p:cNvSpPr/>
          <p:nvPr/>
        </p:nvSpPr>
        <p:spPr>
          <a:xfrm>
            <a:off x="762120" y="1219320"/>
            <a:ext cx="73152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‘form’ of the following fun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3x</a:t>
            </a:r>
            <a:r>
              <a:rPr b="1" lang="en-US" sz="4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+ 4x +8 = 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 $1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EC93F-88B9-4A03-9B16-5BA24E8B32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Rectangle 3"/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AutoShape 4"/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Rectangle 5"/>
          <p:cNvSpPr/>
          <p:nvPr/>
        </p:nvSpPr>
        <p:spPr>
          <a:xfrm>
            <a:off x="1549080" y="3017160"/>
            <a:ext cx="607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What are ‘3/2 &amp; -5/3’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70E3E-E498-494B-A1BA-C44AB3BA59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 Box 3"/>
          <p:cNvSpPr/>
          <p:nvPr/>
        </p:nvSpPr>
        <p:spPr>
          <a:xfrm>
            <a:off x="762120" y="1219320"/>
            <a:ext cx="7315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Name the roots of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y = (2x – 4)(3x + 9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 $5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04F88-CED7-4BCD-9B17-B260386133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Rectangle 3"/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AutoShape 4"/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Rectangle 5"/>
          <p:cNvSpPr/>
          <p:nvPr/>
        </p:nvSpPr>
        <p:spPr>
          <a:xfrm>
            <a:off x="2021400" y="3017520"/>
            <a:ext cx="5123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What are ‘2 &amp; -3’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884F0-8F77-4D26-8D40-08DE107531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4"/>
          <p:cNvSpPr/>
          <p:nvPr/>
        </p:nvSpPr>
        <p:spPr>
          <a:xfrm>
            <a:off x="990720" y="1981080"/>
            <a:ext cx="7315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Name the Primary Trig Rati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 $1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E6AB6-1F0C-464D-A8EE-6676D94E63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Rectangle 3"/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AutoShape 4"/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Rectangle 5"/>
          <p:cNvSpPr/>
          <p:nvPr/>
        </p:nvSpPr>
        <p:spPr>
          <a:xfrm>
            <a:off x="1267200" y="3020400"/>
            <a:ext cx="7477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What is ‘SOH CAH TOA?’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18A4B-C830-4C7F-A2F5-5CB20F3596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3"/>
          <p:cNvSpPr/>
          <p:nvPr/>
        </p:nvSpPr>
        <p:spPr>
          <a:xfrm>
            <a:off x="990720" y="1066680"/>
            <a:ext cx="7315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angle looking down from the horizontal is called …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 $2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C5443-9811-461D-B124-27772A3BC7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Rectangle 3"/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AutoShape 4"/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Rectangle 5"/>
          <p:cNvSpPr/>
          <p:nvPr/>
        </p:nvSpPr>
        <p:spPr>
          <a:xfrm>
            <a:off x="47880" y="2590200"/>
            <a:ext cx="900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What is the ‘angle of depression’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6964C-4E8F-4818-88A4-6E924DF59A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Text Box 4"/>
          <p:cNvSpPr/>
          <p:nvPr/>
        </p:nvSpPr>
        <p:spPr>
          <a:xfrm>
            <a:off x="762120" y="1219320"/>
            <a:ext cx="73152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law used when you have a contained angle and two sides of a non-right triangl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  $3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658C9-597A-4CA8-A8A2-4C8911B4F6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Rectangle 3"/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AutoShape 4"/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Rectangle 5"/>
          <p:cNvSpPr/>
          <p:nvPr/>
        </p:nvSpPr>
        <p:spPr>
          <a:xfrm>
            <a:off x="784080" y="3017520"/>
            <a:ext cx="744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What is ‘The Cosine Law’ 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097FE-B07B-4373-9566-E79F14DFD7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Text Box 3"/>
          <p:cNvSpPr/>
          <p:nvPr/>
        </p:nvSpPr>
        <p:spPr>
          <a:xfrm>
            <a:off x="762120" y="1219320"/>
            <a:ext cx="7315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wo angles in a triangle are 58 and 42.  What is the final ang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 $4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037A1-0BAC-4E9C-BF15-A7B8577D6E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Rectangle 4"/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AutoShape 5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6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Rectangle 7"/>
          <p:cNvSpPr/>
          <p:nvPr/>
        </p:nvSpPr>
        <p:spPr>
          <a:xfrm>
            <a:off x="1306440" y="1466280"/>
            <a:ext cx="669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What is Standard Form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BEF88-B644-4618-AE27-5420F20826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Rectangle 3"/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AutoShape 4"/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Rectangle 5"/>
          <p:cNvSpPr/>
          <p:nvPr/>
        </p:nvSpPr>
        <p:spPr>
          <a:xfrm>
            <a:off x="2761920" y="2593440"/>
            <a:ext cx="3667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What is ‘80’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1F9AD-007E-4DAA-9E32-5D42DC0593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Text Box 4"/>
          <p:cNvSpPr/>
          <p:nvPr/>
        </p:nvSpPr>
        <p:spPr>
          <a:xfrm>
            <a:off x="762120" y="1219320"/>
            <a:ext cx="7315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hypotoneuse of a right angle triangle with sides 3 and 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 $5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348A1-A290-4F1A-BC1D-A8872DFFB8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Rectangle 3"/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AutoShape 4"/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Rectangle 5"/>
          <p:cNvSpPr/>
          <p:nvPr/>
        </p:nvSpPr>
        <p:spPr>
          <a:xfrm>
            <a:off x="2825640" y="3018600"/>
            <a:ext cx="351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What is ‘5’ 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27648-F545-488A-B06C-F229C480E7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Text Box 2"/>
          <p:cNvSpPr/>
          <p:nvPr/>
        </p:nvSpPr>
        <p:spPr>
          <a:xfrm>
            <a:off x="1447920" y="30780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Text Box 3"/>
          <p:cNvSpPr/>
          <p:nvPr/>
        </p:nvSpPr>
        <p:spPr>
          <a:xfrm>
            <a:off x="762120" y="1219320"/>
            <a:ext cx="73152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is year’s Grinch in the Carleton Place Christmas Para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 $1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DA36B-2C31-4D63-BE67-9EACACD043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Text Box 2"/>
          <p:cNvSpPr/>
          <p:nvPr/>
        </p:nvSpPr>
        <p:spPr>
          <a:xfrm>
            <a:off x="1447920" y="30798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Rectangle 3"/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AutoShape 4"/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Rectangle 5"/>
          <p:cNvSpPr/>
          <p:nvPr/>
        </p:nvSpPr>
        <p:spPr>
          <a:xfrm>
            <a:off x="1270800" y="3018600"/>
            <a:ext cx="661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Who is the ‘Josh Jones’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B7F49-58BF-4390-BCE0-297F4EB992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Text Box 2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 Box 4"/>
          <p:cNvSpPr/>
          <p:nvPr/>
        </p:nvSpPr>
        <p:spPr>
          <a:xfrm>
            <a:off x="762120" y="1219320"/>
            <a:ext cx="7315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first Date back after Christmas Brea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 $2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B114F-D54B-46FE-AA57-8E25544A3E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Rectangle 3"/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AutoShape 4"/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Rectangle 5"/>
          <p:cNvSpPr/>
          <p:nvPr/>
        </p:nvSpPr>
        <p:spPr>
          <a:xfrm>
            <a:off x="864720" y="3018600"/>
            <a:ext cx="7425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When is ‘Monday Jan 9th’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62107-6537-4038-9665-5169F8D7F8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Text Box 4"/>
          <p:cNvSpPr/>
          <p:nvPr/>
        </p:nvSpPr>
        <p:spPr>
          <a:xfrm>
            <a:off x="762120" y="1219320"/>
            <a:ext cx="7315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Mr Cordick’s favorite NFL tea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 $3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2A3D9-6FF7-4C14-BD9D-F97D25B88C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3"/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AutoShape 4"/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Rectangle 5"/>
          <p:cNvSpPr/>
          <p:nvPr/>
        </p:nvSpPr>
        <p:spPr>
          <a:xfrm>
            <a:off x="1023480" y="2653920"/>
            <a:ext cx="7122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Who i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‘ </a:t>
            </a: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The Indianapolis Colts ’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D8158-D558-4FCA-9826-C1F4519FFC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 Box 4"/>
          <p:cNvSpPr/>
          <p:nvPr/>
        </p:nvSpPr>
        <p:spPr>
          <a:xfrm>
            <a:off x="762120" y="1219320"/>
            <a:ext cx="73152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name of the teacher who teaches “Construction Tec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 $4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36BEB-B2F3-4853-A04E-9C551ED22F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4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5"/>
          <p:cNvSpPr/>
          <p:nvPr/>
        </p:nvSpPr>
        <p:spPr>
          <a:xfrm>
            <a:off x="838080" y="838080"/>
            <a:ext cx="73152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‘form’ of the following fun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y = 3(x-6)</a:t>
            </a:r>
            <a:r>
              <a:rPr b="1" lang="en-US" sz="48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+ 2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 $2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5B5B6-0B58-4AD7-A16B-277F38F434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Rectangle 3"/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AutoShape 4"/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1830240" y="3015720"/>
            <a:ext cx="549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Who is ‘Mr. Howe’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5D533-D5EF-48CD-88F1-041CBD9CDB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4"/>
          <p:cNvSpPr/>
          <p:nvPr/>
        </p:nvSpPr>
        <p:spPr>
          <a:xfrm>
            <a:off x="762120" y="1219320"/>
            <a:ext cx="7315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first name of Mr. Gedd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 $5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37833-E933-4741-B8F9-9D394D5A3B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Text Box 2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Rectangle 3"/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AutoShape 4"/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Rectangle 5"/>
          <p:cNvSpPr/>
          <p:nvPr/>
        </p:nvSpPr>
        <p:spPr>
          <a:xfrm>
            <a:off x="2406600" y="2748600"/>
            <a:ext cx="468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Who is ‘Robert’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D6585-EA7F-4CA6-8498-BC0FFC074A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Rectangle 3"/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AutoShape 4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5"/>
          <p:cNvSpPr/>
          <p:nvPr/>
        </p:nvSpPr>
        <p:spPr>
          <a:xfrm>
            <a:off x="4714920" y="290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Rectangle 6"/>
          <p:cNvSpPr/>
          <p:nvPr/>
        </p:nvSpPr>
        <p:spPr>
          <a:xfrm>
            <a:off x="1838520" y="2782440"/>
            <a:ext cx="571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What is vertex form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62276-7B73-4C9E-893A-27CD5B8930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762120" y="1219320"/>
            <a:ext cx="73152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4"/>
          <p:cNvSpPr/>
          <p:nvPr/>
        </p:nvSpPr>
        <p:spPr>
          <a:xfrm>
            <a:off x="3733920" y="2209680"/>
            <a:ext cx="291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4251240" y="2784600"/>
            <a:ext cx="26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6"/>
          <p:cNvSpPr/>
          <p:nvPr/>
        </p:nvSpPr>
        <p:spPr>
          <a:xfrm>
            <a:off x="1371600" y="2209680"/>
            <a:ext cx="6435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nother term for the ‘roots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or $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4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9ABDE-DB09-470A-B8F7-4D7E96BF7E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Rectangle 3"/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AutoShape 4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5"/>
          <p:cNvSpPr/>
          <p:nvPr/>
        </p:nvSpPr>
        <p:spPr>
          <a:xfrm>
            <a:off x="2129040" y="2653920"/>
            <a:ext cx="441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What is ‘zeros’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DB826-FE07-4216-8343-506A716930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4"/>
          <p:cNvSpPr/>
          <p:nvPr/>
        </p:nvSpPr>
        <p:spPr>
          <a:xfrm>
            <a:off x="838080" y="2133720"/>
            <a:ext cx="7315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vertex coordinates of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(x) = 3 (x-2)</a:t>
            </a:r>
            <a:r>
              <a:rPr b="1" lang="en-US" sz="4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 $4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Marek Doroshenko</dc:creator>
  <dc:description/>
  <dc:language>en-US</dc:language>
  <cp:lastModifiedBy>ICT</cp:lastModifiedBy>
  <dcterms:modified xsi:type="dcterms:W3CDTF">2011-12-02T14:20:28Z</dcterms:modified>
  <cp:revision>101</cp:revision>
  <dc:subject/>
  <dc:title>Jeopardy Template</dc:title>
</cp:coreProperties>
</file>